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8496-6B7E-41F5-BD55-7D045EABB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A65E-9922-43D9-BFE1-8C585FACC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AB9B-B0E5-469E-A046-FE28E0FD2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A356-AC1C-44CE-8916-36F59FBFC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18D39-59F9-400C-90CF-34D20E504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8F7D7-8F64-4EDF-857B-075A0A64E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3A417-818E-41E3-9C32-8E21F7BDB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BB047-8809-4D83-A64F-861BAD3F9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AC8BA-17C1-4B1E-B982-34F804358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D2254-13B1-498E-A2BE-1269A095E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8892B-BBAC-4839-BC3A-6DCA3E97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2CAA-E638-41EE-B49E-59A6216F8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AC6E1-9D9F-4604-B3F9-57B89679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548F4-FE39-4180-AD7B-38EF61FA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CB662-B851-4FA2-89D7-A5659951E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3ABE9-A4A9-4FFA-8B2A-8EE883715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B2106-CFF6-40BA-A144-1181A2F61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0B17-2621-49E1-9C43-59A6CC7AE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790A-E59F-4B2D-90AE-837BAEF55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2B72-A2F1-4646-AAE9-8C8CC0092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B956-AA4C-4F31-A293-1E824935E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2904-6FA9-44B0-B863-E9E51BD6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77EC-F36C-430E-95DE-8C99C347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FB1A-1304-49FF-8855-6724A418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49E7F-2B2C-4ED0-96D3-3733BDE3596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C0CF3-9CDC-4D03-A6F7-5E28E1F6BA5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ociocultural perspectives on learning (really = acquisition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3915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arning (acquisition) is a gradual process of enculturation into communities of practice that use language in particular way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ou begin as a “peripheral participant” and gradually become a full member of the club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ficiency develops over time given an environment that is conducive to growth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earning vs. Acquisi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rn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ciou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quires effor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ransmission mod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duces meta-knowledg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formation is easily los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1480" y="1752480"/>
            <a:ext cx="392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quisi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nconsciou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ffortle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pprenticeship (transactional) mod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duces practical competen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ffects are long last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ransmission vs. Transac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ransmission model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emphasis on direct teach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quential instructio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imple to complex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pieces to whol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Behaviorist model of learning (Skinner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1480" y="1752480"/>
            <a:ext cx="392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ransactional model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emphasis on learning or acquisi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maller parts seen as more readily learned within the context of a meaningful who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ociocultural model of learning (Vygotksy; Halliday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37320"/>
            <a:ext cx="82296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403848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Correctness is valu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risk-taking is discouraged or penaliz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Mastery is expect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but rarely achieved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Ability to reproduce or verbalize a pre-determined correct response is taken as evidence of learn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8320" y="228600"/>
            <a:ext cx="403848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isk-taking, and hence “errors” are seen as essential for learn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Learners are expected to develop at their own pace; no concept of “failure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Ability to apply knowledge and to think in novel ways is evidence of learning - or to use general strategies across a wide range of tasks and contex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cquisition as a developmental proces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re are general patterns of language development (and of language sub-components such as syntax; spelling; read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’s important to know where your students are at along these various continua in order to target instruction to their “zone of proximal development (“ZPD”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this does not mean we should limit students’ exposure to the full range of language expressions; nor can we target instruction all the time to meet each individual’s ZP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challenge becomes how to design instructional activities that are sufficiently open-ended and yet guided so that all students can leverage what they already know and yet continue to gro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earning as an active proces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arners make hypotheses about language rules as they move through developmental stag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y may “overgeneralize” along the wa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e foot, two foot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ight, sight, might, bigh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ive it to she and I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a3b2c1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Thus we can analyze students’ “errors” with an eye to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what they 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know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d/or are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rying to d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23:24:44Z</dcterms:created>
  <dc:creator>College of Education</dc:creator>
  <dc:description/>
  <dc:language>en-US</dc:language>
  <cp:lastModifiedBy>College of Education</cp:lastModifiedBy>
  <dcterms:modified xsi:type="dcterms:W3CDTF">2006-07-06T15:40:56Z</dcterms:modified>
  <cp:revision>3</cp:revision>
  <dc:subject/>
  <dc:title>Sociocultural perspectives on learning (really = acquisition)</dc:title>
</cp:coreProperties>
</file>